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F65-12B9-4026-954C-23B3615F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783-9EE8-4B24-B43A-EE22F302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070-6776-4F74-861D-0FCFD65D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82A-68B7-4C1F-826D-CDFE97F9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54BB-B850-4781-BB34-55C0DE19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CA1C-27FF-4A3C-91C3-3749CE03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94E-90ED-4269-9F70-C74E9E64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3744-BC34-4BC4-A1D9-CFAA0E8A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65C-2C0C-440B-B6FD-B079993C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89DC-5561-435A-A0F1-33308334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7ECE-AB77-4AD0-8D85-20B590DE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C2AE-F5CB-49D3-9E27-592B7EDB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E1BE-E937-4D1E-80A0-8CA8FDFC6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rect  Admits Parked at Own 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- Patient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e.g. from Other Ward/IC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vious Location =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wn ER (direc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_Admit_Inpatient =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Other site/unit/ward last sent fr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vious Service =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Service of sending site otherwise unkn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pt DtTm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Visit Admit DtTm (?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Non-In-Patien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e.g. from Other ER / ambulatory Clinic / PCH /Home 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vious Location =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wn ER (park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_Admit_Inpatient =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N/A not applic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vious Service =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Service of sending site, otherwise unkn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cept DtTm =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Visit Admit DtTm (?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 In-Patients Direct Adm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admit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kn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prior location of the patient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unknow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en-US" sz="3200" spc="-1" strike="noStrike">
                <a:solidFill>
                  <a:srgbClr val="4bacc6"/>
                </a:solidFill>
                <a:latin typeface="Calibri"/>
              </a:rPr>
              <a:t>(Can this be made known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acc6"/>
                </a:solidFill>
                <a:latin typeface="Calibri"/>
              </a:rPr>
              <a:t>Enter in  Tmp project ‘Accept_Loc_Park’ where the decision to admit wa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interfacility transfers, these patients are reported to be coming from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ther site’s loc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e.g. STB_ER) vi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‘Own ER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-Patients Direct Adm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admit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kn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prior inpatient location of the patient i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know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interfacility transfers, these patients are reported to be coming from the ‘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_admit_Inpatient Institu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  via ‘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wn 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8T19:08:24Z</dcterms:created>
  <dc:creator>Julie Mojica</dc:creator>
  <dc:description/>
  <dc:language>en-US</dc:language>
  <cp:lastModifiedBy>Julie Mojica</cp:lastModifiedBy>
  <dcterms:modified xsi:type="dcterms:W3CDTF">2017-12-07T19:45:28Z</dcterms:modified>
  <cp:revision>23</cp:revision>
  <dc:subject/>
  <dc:title>PowerPoint Presentation</dc:title>
</cp:coreProperties>
</file>